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5DA8-23A5-40EF-A14B-021EFB29DC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1FF9-A75F-4F73-A516-7A317510B0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1017-F618-4B2C-817E-9D5FF2ED49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478F-3697-4E0E-8122-80631552ED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F48E-4FD2-49CB-9F78-3F3925615E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4C66-77B0-470F-BFCE-00974000B5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0A29-C97D-4206-94A3-4ED0528356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EE11-4BE4-48B7-8BBF-5ABF97F2A5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1CD9-E3B2-488E-97A3-2D8895E436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FDFD-596D-47F6-AC99-5A4F1F646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2C1F-A4CF-4037-90FF-0E56C5A1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D938-868F-4BB4-8FDF-C219F012C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4A0D-268C-48DF-AD49-163A3165D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0920-2DCE-4DF5-B069-80D8CC0F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23C6-03C1-4D3D-86FD-3D149310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EFC9-A0B6-4398-9738-B47C1308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18FD-2370-4B0B-BF33-37F4A020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BAAE-80AC-4E4B-8EC4-0D7AAAAF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E8CD-64F2-486D-A016-229D0FCA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4AAA-A889-42E8-94E8-9F4DD6A6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7491-FE2D-4676-8AF3-51C72BC2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DB26-C3B8-4EC7-8CEE-5B4D8936EB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ng of the 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marvingaye1.bmp"/>
          <p:cNvPicPr/>
          <p:nvPr/>
        </p:nvPicPr>
        <p:blipFill>
          <a:blip r:embed="rId1"/>
          <a:stretch/>
        </p:blipFill>
        <p:spPr>
          <a:xfrm>
            <a:off x="4876920" y="3733920"/>
            <a:ext cx="2819160" cy="2819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marvingaye2.jpg"/>
          <p:cNvPicPr/>
          <p:nvPr/>
        </p:nvPicPr>
        <p:blipFill>
          <a:blip r:embed="rId2"/>
          <a:stretch/>
        </p:blipFill>
        <p:spPr>
          <a:xfrm>
            <a:off x="762120" y="175248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4419720" y="1676520"/>
            <a:ext cx="411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vin Gay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’s Going On?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eased in 197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97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3" descr="sbuxlogo1.bmp"/>
          <p:cNvPicPr/>
          <p:nvPr/>
        </p:nvPicPr>
        <p:blipFill>
          <a:blip r:embed="rId1"/>
          <a:stretch/>
        </p:blipFill>
        <p:spPr>
          <a:xfrm>
            <a:off x="380880" y="12193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weathermen1.bmp"/>
          <p:cNvPicPr/>
          <p:nvPr/>
        </p:nvPicPr>
        <p:blipFill>
          <a:blip r:embed="rId2"/>
          <a:stretch/>
        </p:blipFill>
        <p:spPr>
          <a:xfrm>
            <a:off x="838080" y="3622680"/>
            <a:ext cx="4437360" cy="3006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dbcooper1.jpg"/>
          <p:cNvPicPr/>
          <p:nvPr/>
        </p:nvPicPr>
        <p:blipFill>
          <a:blip r:embed="rId3"/>
          <a:stretch/>
        </p:blipFill>
        <p:spPr>
          <a:xfrm>
            <a:off x="3124080" y="1676520"/>
            <a:ext cx="2857680" cy="1600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dbcooper2.jpg"/>
          <p:cNvPicPr/>
          <p:nvPr/>
        </p:nvPicPr>
        <p:blipFill>
          <a:blip r:embed="rId4"/>
          <a:stretch/>
        </p:blipFill>
        <p:spPr>
          <a:xfrm>
            <a:off x="6248520" y="1676520"/>
            <a:ext cx="2638440" cy="1733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snoop1.jpg"/>
          <p:cNvPicPr/>
          <p:nvPr/>
        </p:nvPicPr>
        <p:blipFill>
          <a:blip r:embed="rId5"/>
          <a:stretch/>
        </p:blipFill>
        <p:spPr>
          <a:xfrm>
            <a:off x="6095880" y="3733920"/>
            <a:ext cx="216216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idential Surviv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Content Placeholder 3" descr="mitt.jpg"/>
          <p:cNvPicPr/>
          <p:nvPr/>
        </p:nvPicPr>
        <p:blipFill>
          <a:blip r:embed="rId1"/>
          <a:stretch/>
        </p:blipFill>
        <p:spPr>
          <a:xfrm>
            <a:off x="533520" y="1371600"/>
            <a:ext cx="2057400" cy="2536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newt.jpg"/>
          <p:cNvPicPr/>
          <p:nvPr/>
        </p:nvPicPr>
        <p:blipFill>
          <a:blip r:embed="rId2"/>
          <a:stretch/>
        </p:blipFill>
        <p:spPr>
          <a:xfrm>
            <a:off x="6248520" y="15238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santorum.jpg"/>
          <p:cNvPicPr/>
          <p:nvPr/>
        </p:nvPicPr>
        <p:blipFill>
          <a:blip r:embed="rId3"/>
          <a:stretch/>
        </p:blipFill>
        <p:spPr>
          <a:xfrm>
            <a:off x="685800" y="4038480"/>
            <a:ext cx="2057400" cy="2592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paul.jpg"/>
          <p:cNvPicPr/>
          <p:nvPr/>
        </p:nvPicPr>
        <p:blipFill>
          <a:blip r:embed="rId4"/>
          <a:stretch/>
        </p:blipFill>
        <p:spPr>
          <a:xfrm>
            <a:off x="6172200" y="4205160"/>
            <a:ext cx="2514600" cy="2362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gop.jpg"/>
          <p:cNvPicPr/>
          <p:nvPr/>
        </p:nvPicPr>
        <p:blipFill>
          <a:blip r:embed="rId5"/>
          <a:stretch/>
        </p:blipFill>
        <p:spPr>
          <a:xfrm>
            <a:off x="3352680" y="4343400"/>
            <a:ext cx="2295720" cy="1990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survivor.jpg"/>
          <p:cNvPicPr/>
          <p:nvPr/>
        </p:nvPicPr>
        <p:blipFill>
          <a:blip r:embed="rId6"/>
          <a:stretch/>
        </p:blipFill>
        <p:spPr>
          <a:xfrm>
            <a:off x="2819520" y="1676520"/>
            <a:ext cx="320832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Quick Look B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ing #1 and Reading #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pter 18 Secti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Ease Progres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50’s Make-up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sm/Capitalism Ess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rn in no later than April 12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unism/Capitalism Make-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weren’t here for the Capitalism/Communism simulation or did not complete the essay and need a refresher, a short review will take place in this room at 3:40 pm today.  Please complete the essay by April 12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Quick Look Ahe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r semester grade in this class will be based on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cipation- 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ily Assessments- 2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t Tests- 2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 Movements Speech/Paper- 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 Final- 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al History Assignment- 2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Quick Look Ahe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 Movements Speech/Pa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etnam/1960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‘90s and ‘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al History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er Vacation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oup 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et with your groups to finalize your plans for your presen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down notes for your spee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are done with your paper/speech preparation, use this time to finish up any assignments that you still need to turn 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7:00:38Z</dcterms:created>
  <dc:creator>Rob</dc:creator>
  <dc:description/>
  <dc:language>en-US</dc:language>
  <cp:lastModifiedBy>Rob</cp:lastModifiedBy>
  <dcterms:modified xsi:type="dcterms:W3CDTF">2012-04-06T07:25:04Z</dcterms:modified>
  <cp:revision>38</cp:revision>
  <dc:subject/>
  <dc:title>Slide 1</dc:title>
</cp:coreProperties>
</file>